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2B668-0A8E-431B-8384-45A8FDA251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660066-933F-4F53-A8DB-F35CAE8757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264B2-D627-4784-8ECC-64E314A0678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D598E1-E4B0-4A7D-BFB6-26F788B83D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9DD855-A7F2-4875-8FF4-E604EBBB27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6F5C8-9E58-4991-B196-731575C38D0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2F1F1-43F9-44E2-86CC-12B8F8DB8B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5347B-0A56-4634-B8D0-4820043E82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BFAA3-C509-47C6-A79C-CE9D5187F3B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C249-2964-4957-A242-53C392FFE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7D6F-F99B-486A-952F-EF75A0385F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121C6-B7AF-4D21-A41C-19929CAE34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61D80-63DC-40D1-BB00-598ACF82C3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C41F-250C-433C-B6E8-5FD0916225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324C-C208-4913-9DFD-6B60DA7389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5D17-4436-4892-9628-F6F7A09D54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D707-7610-456A-98E7-6021AB626C0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3FD8-D32D-4C77-9A95-FD6BA41DA73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7780-A7CD-46CF-886C-8662099BF6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EC30-66D0-4846-8F9E-F35556E25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EDEC-8E17-4456-91FF-DE23479348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A1D8E-67B3-411A-B695-1A9E4332528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45A39-294D-4756-B907-A79897F4BC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31815-A3B4-4644-BC73-58263437C7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FC753-F01D-4F93-B301-3EAE0E3F6ED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286EC-82AB-4BEF-884C-FD121C4849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E6285-64FE-4BD7-B36A-768665655A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96B68-1DAD-4FA8-80B1-1D4C14CA7C9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D79E1-B01A-4804-AC32-C8CB28CC21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61C20-15E8-4FA7-BB96-DBEF1E3C4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2C99-859E-4C3A-8445-CB17E7E9963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F0F9D-1373-4472-BF67-213C976897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F60D8-DD94-42BE-B730-26E39A2F4D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6FDE8-2AAA-410A-8F1F-2EEBF1016A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08E5-9654-49BA-9523-71EAFBC6AA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27D9-BC8D-47B3-A11A-B9431F82BB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CC83-BE57-483E-BFFC-21DEED24FF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5548-0985-4E04-9FA7-9E27293A46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DED2-95F7-4437-B480-E1035C1D67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74BE-351F-4380-8F49-D83144348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008D-98AD-4F5D-94B3-4AE30B0659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662F-062F-4DC6-99EF-D77227938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C3D0-E4ED-48C6-A777-F4FED7A22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F97E-D9E6-4F26-850E-E7482BA47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6691-24D9-4893-A418-2E0E44C5EF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BEF5-2FCF-46CE-95C1-6DB81F81F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B169C-1603-4646-9145-F9C76D680E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73D8B-F468-4DAB-914C-9D7EAE0CCC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ED488-0A35-491B-9BD6-B0504FCE9B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5124D-7B42-455F-99D7-B0B3C3426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442FC-2B3B-4560-BEA4-FF43B04386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84C8-AB1F-424E-B738-D64EBC073C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95A9A-2033-4157-8BC5-7727EEB841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CF9BD-E6BC-4E75-B6CF-50D8912996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4B2EB-E8E1-4F56-8C42-DF7938C5D8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1489-1A81-4BA8-9732-4D03D77DFD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73FB1-1C2E-4F10-8121-605F408D81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1E56-B859-4042-B071-9540AF3349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11D0-F218-4DCC-BF12-9EC5335B79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3FC6-8439-4E4C-B8FF-E4E53E512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5C09-D971-443C-A4F0-38649EE2ED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5207-82E0-4B53-B56B-91382D52A9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8C1D-CC6B-4137-9FCA-976AA3EB12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D275-5135-436E-A006-A89598E7A7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FA83-71B5-4B40-B04E-4E1964BFCF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7AA-92C5-4FBD-BD9C-57D73EAFD2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AE5A-5734-4A4E-B797-54BEA7107C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B451-1BD6-4F45-BC47-6998C9E248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3B6-0F02-46FF-9D23-715BB48C47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EBAC9-D37B-4F31-A07C-DB5E50DA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5ABB5-3E0C-4C58-A1E2-01A09A4152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8ED52-8589-462B-8998-AA1F0E933F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8B2B8-1801-4A15-8D07-0DC367F85C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BE906-5532-4E56-9D1F-A11B2F8B992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B01CF-8CD6-48E8-9CF5-90B3F484464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F9A6C-7FB4-4080-A6D4-6BE5197FE6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0D4BE-4255-436F-8CD3-3F0D4E1939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93A79-7FE4-4216-9001-5E8CAA1D80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FCFB3-6E21-4C77-8743-9E786795EB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295EE-2A9B-4107-9B02-B490CD464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2E3F1-C58B-4DF8-A3BA-C9E687C6AB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7F8A5-2616-4D52-AF04-4D8B68F113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1018F-2F62-461F-8185-0BD92FBE597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7EFBED-990F-44B0-8F0B-01D9C7B555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8AB52-14AE-4C4D-8139-530BA65C8C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69442-DC91-442F-9C4C-4B0BB0CA16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F14DC-D3B5-4B8C-AD75-24C6BC46EF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1B7B4-B0D1-4604-A66A-104DCF475B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52BE6-E376-47E8-96BA-93F5487D86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54F8D-C7AE-43D1-B5A8-50FCC071B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E907A-B86C-4AA8-9D8E-B1BFA3576F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AC2E1-F1A2-49BF-A94A-889C1DEC86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FC7BB-F72D-4D6A-B482-5139C6771F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C1D2-2545-4640-BAAB-6F6AEC0464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FF58-77E9-4295-BEE6-8E3555ABE37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B7FF-4624-48C7-964C-0CF9DFF8CC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67DB-5547-4862-9EED-2B71439418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349E-149A-48EC-B4F4-AECA1B787E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C5B9-41A1-4EEB-BA74-C4F9C1B5DF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DD7C-1211-41C4-A5C0-881E1B6CE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AA0D-DA7F-41A6-9673-9E8634846A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3F75-9417-46CB-92E2-4D9F035048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C3DA-FA36-4042-ACBF-4D11A6AD3D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4CE5-597E-4A36-B743-FAE5C51B0D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5AC4-D5A8-42DC-9837-CE50435BF9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4FAD6-67F6-45AF-A2E9-099A00F716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CCF29-9058-4A82-8DC8-BB7C160692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782BD-9B82-4925-AFE0-A229265C4D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CB83C-55B8-49B2-A037-895561FF87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EFF5E-7981-45CD-BE5D-887B18E93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D1B0A-2CAD-4EB3-9473-60821B522D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83B54-1258-48C8-BE73-4FC5C1D90A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80B07-6F79-4230-88E9-E4D9D63545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6C108-1543-428B-A168-7C180C639C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7645A-8591-44EE-B623-D59F4474A9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68793-914F-4DD1-9F84-D47E354961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68719-1F86-4AA3-9E50-E097714C34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EDE42-F4C7-41CF-AECA-4E961FB370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3DF141-27D7-4E11-805F-A9F8FB2C91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150B4-5F36-421C-B5BD-AD566F3E6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865-FB84-460E-B5AF-4CF797F1D0C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5E59-5A6D-4061-943E-55EF2805544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C6BC-12EB-4397-A77F-D03AE7952A2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139-F9B3-4741-A75E-F190B2770E7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982E-4F18-48B1-9242-3F22C63AAF3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5570-80DA-4AA4-9973-B132597EF28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D24-4740-4D11-B36F-3E73FCD120E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F56E-38DC-41E5-955E-65091C4B95D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98DA-79DB-4A76-8F02-5EC73AD988F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D1E-D259-4179-B73D-993588E5BB2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Storia dell’arte contemporane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ssa Anna Mazzan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ultore: dott.ssa Eleonora Chara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 (no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80 Polimi + 2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SI ma la frequenza è caldamente consigliat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684360" y="4292640"/>
            <a:ext cx="813564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Il corso riguarda le espressioni artistiche fra XIX e XXI secolo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Si  prediligerà un approccio critico per la comprensione delle opere d’arte e dei loro contesti come palinsesti comunicativi per il designer. Si osserveranno la capacità di interpretare e rinnovare le eredità culturali, le modificazioni nelle tecniche e nell’uso dei materiali sempre più provenienti da territori extra-artistici nel lungo arco di tempo considerato. Il nostro scopo è quello di acuire il background culturale degli studenti e di mettere in sinergia le loro competenze e i loro interessi nei diversi corsi di laurea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12968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Immagine 1" descr="Schwitters.JPG"/>
          <p:cNvPicPr/>
          <p:nvPr/>
        </p:nvPicPr>
        <p:blipFill>
          <a:blip r:embed="rId1"/>
          <a:stretch/>
        </p:blipFill>
        <p:spPr>
          <a:xfrm>
            <a:off x="1332000" y="1052640"/>
            <a:ext cx="3024000" cy="1896840"/>
          </a:xfrm>
          <a:prstGeom prst="rect">
            <a:avLst/>
          </a:prstGeom>
          <a:ln w="0">
            <a:noFill/>
          </a:ln>
        </p:spPr>
      </p:pic>
      <p:pic>
        <p:nvPicPr>
          <p:cNvPr id="459" name="Immagine 2" descr="episerie.tiff"/>
          <p:cNvPicPr/>
          <p:nvPr/>
        </p:nvPicPr>
        <p:blipFill>
          <a:blip r:embed="rId2"/>
          <a:stretch/>
        </p:blipFill>
        <p:spPr>
          <a:xfrm>
            <a:off x="250920" y="3141720"/>
            <a:ext cx="1942920" cy="2735280"/>
          </a:xfrm>
          <a:prstGeom prst="rect">
            <a:avLst/>
          </a:prstGeom>
          <a:ln w="0">
            <a:noFill/>
          </a:ln>
        </p:spPr>
      </p:pic>
      <p:pic>
        <p:nvPicPr>
          <p:cNvPr id="460" name="Immagine 2" descr="oldenbrg.jpg"/>
          <p:cNvPicPr/>
          <p:nvPr/>
        </p:nvPicPr>
        <p:blipFill>
          <a:blip r:embed="rId3"/>
          <a:stretch/>
        </p:blipFill>
        <p:spPr>
          <a:xfrm>
            <a:off x="2340000" y="4076640"/>
            <a:ext cx="2700360" cy="1790640"/>
          </a:xfrm>
          <a:prstGeom prst="rect">
            <a:avLst/>
          </a:prstGeom>
          <a:ln w="0">
            <a:noFill/>
          </a:ln>
        </p:spPr>
      </p:pic>
      <p:pic>
        <p:nvPicPr>
          <p:cNvPr id="461" name="Rectangle 2" descr=""/>
          <p:cNvPicPr/>
          <p:nvPr/>
        </p:nvPicPr>
        <p:blipFill>
          <a:blip r:embed="rId4"/>
          <a:stretch/>
        </p:blipFill>
        <p:spPr>
          <a:xfrm>
            <a:off x="103320" y="5937120"/>
            <a:ext cx="7711920" cy="609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http://vote08.freedomblogging.com/files/2008/09/andy-warhol-soup.jpg"/>
          <p:cNvPicPr/>
          <p:nvPr/>
        </p:nvPicPr>
        <p:blipFill>
          <a:blip r:embed="rId5"/>
          <a:stretch/>
        </p:blipFill>
        <p:spPr>
          <a:xfrm>
            <a:off x="6012000" y="4292640"/>
            <a:ext cx="2423880" cy="1474920"/>
          </a:xfrm>
          <a:prstGeom prst="rect">
            <a:avLst/>
          </a:prstGeom>
          <a:ln w="0">
            <a:noFill/>
          </a:ln>
        </p:spPr>
      </p:pic>
      <p:pic>
        <p:nvPicPr>
          <p:cNvPr id="463" name="Immagine 9" descr=""/>
          <p:cNvPicPr/>
          <p:nvPr/>
        </p:nvPicPr>
        <p:blipFill>
          <a:blip r:embed="rId6"/>
          <a:stretch/>
        </p:blipFill>
        <p:spPr>
          <a:xfrm>
            <a:off x="4716360" y="765000"/>
            <a:ext cx="2395800" cy="3192480"/>
          </a:xfrm>
          <a:prstGeom prst="rect">
            <a:avLst/>
          </a:prstGeom>
          <a:ln w="0">
            <a:noFill/>
          </a:ln>
        </p:spPr>
      </p:pic>
      <p:sp>
        <p:nvSpPr>
          <p:cNvPr id="464" name="CasellaDiTesto 1"/>
          <p:cNvSpPr/>
          <p:nvPr/>
        </p:nvSpPr>
        <p:spPr>
          <a:xfrm>
            <a:off x="0" y="1484280"/>
            <a:ext cx="15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Knut Schwitters,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Merzbau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112968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468360" y="1341360"/>
            <a:ext cx="8351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La parte seminariale del corso sarà dedicata al tema dell’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Orientalismo fra XIX e XXI secolo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. Alla vigilia dell’Expo 2015, momento di confronto interculturale, e di presenze multietniche nella città di Milano, ci pare in sintonia l’indagine che analizzerà l’evolversi di questa espressione artistica e culturale per la quale, nelle sue diverse fasi, resta sempre attore principale l’Occidente e il suo modo di recepire le terre lontane d’Oriente. Apriremo comunque il nostro sguardo anche al processo opposto per osservare aspetti della veicolazione degli echi occidentali nella cultura artistica orientale: dai movimenti storicizzati come l’astrattismo Gutaj che genera sinergie fra l’elaborazione delle forme astratte e gestuali occidentali con l’essenzialità spirituale della tradizione giapponese fino ai contemporanei: dal fenomeno Wei Wei, agli artisti mediorientali come la fotografa e video artista Shirin Neshiat o  Abbas Kiarostami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8920" y="3499920"/>
            <a:ext cx="5040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obert Cahen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ana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2007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http://www.youtube.com/watch?v=jSrSU9QIPBw</a:t>
            </a:r>
            <a:br>
              <a:rPr sz="1600"/>
            </a:br>
            <a:endParaRPr b="0" lang="en-US" sz="1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69" name="Immagine 1" descr="220px-Sanaa.jpg"/>
          <p:cNvPicPr/>
          <p:nvPr/>
        </p:nvPicPr>
        <p:blipFill>
          <a:blip r:embed="rId1"/>
          <a:stretch/>
        </p:blipFill>
        <p:spPr>
          <a:xfrm>
            <a:off x="1116000" y="476280"/>
            <a:ext cx="3699000" cy="2959200"/>
          </a:xfrm>
          <a:prstGeom prst="rect">
            <a:avLst/>
          </a:prstGeom>
          <a:ln w="0">
            <a:noFill/>
          </a:ln>
        </p:spPr>
      </p:pic>
      <p:sp>
        <p:nvSpPr>
          <p:cNvPr id="470" name="Rettangolo 3"/>
          <p:cNvSpPr/>
          <p:nvPr/>
        </p:nvSpPr>
        <p:spPr>
          <a:xfrm>
            <a:off x="539640" y="414972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tutto il grazioso quartiere orientale era illuminato a lampadine multicolori. Poco prima delle dieci i componenti la colonia, egiziani e nubiani, formarono una carovana pittoresca che con suono di pifferi, nenie di donne e picchiar di tamburi dava alle vie in miniatura l’animazione delle sere festive. Erano nella carovana i veloci muletti e dromedari”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La festa al Cairo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, Esposizione Internazionale del Sempione, “Il Secolo”, 25 luglio 1906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CasellaDiTesto 5"/>
          <p:cNvSpPr/>
          <p:nvPr/>
        </p:nvSpPr>
        <p:spPr>
          <a:xfrm>
            <a:off x="5651640" y="4869000"/>
            <a:ext cx="33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lberto Pasini,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La moschea di Tulun, Via del Cairo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, 1860  Piacenza Galleria Ricci-Oddi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2" name="Immagine 1" descr="00745.jpg"/>
          <p:cNvPicPr/>
          <p:nvPr/>
        </p:nvPicPr>
        <p:blipFill>
          <a:blip r:embed="rId2"/>
          <a:stretch/>
        </p:blipFill>
        <p:spPr>
          <a:xfrm>
            <a:off x="5364000" y="1700280"/>
            <a:ext cx="3667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ttangolo 3"/>
          <p:cNvSpPr/>
          <p:nvPr/>
        </p:nvSpPr>
        <p:spPr>
          <a:xfrm>
            <a:off x="179280" y="5229360"/>
            <a:ext cx="4932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CasellaDiTesto 5"/>
          <p:cNvSpPr/>
          <p:nvPr/>
        </p:nvSpPr>
        <p:spPr>
          <a:xfrm>
            <a:off x="5651640" y="580536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hirin Neshiat, Turbolent, 1998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5" name="Immagine 2" descr="images.jpeg"/>
          <p:cNvPicPr/>
          <p:nvPr/>
        </p:nvPicPr>
        <p:blipFill>
          <a:blip r:embed="rId1"/>
          <a:stretch/>
        </p:blipFill>
        <p:spPr>
          <a:xfrm>
            <a:off x="0" y="851040"/>
            <a:ext cx="3454560" cy="2235240"/>
          </a:xfrm>
          <a:prstGeom prst="rect">
            <a:avLst/>
          </a:prstGeom>
          <a:ln w="0">
            <a:noFill/>
          </a:ln>
        </p:spPr>
      </p:pic>
      <p:pic>
        <p:nvPicPr>
          <p:cNvPr id="476" name="Immagine 3" descr="Unknown-1.jpeg"/>
          <p:cNvPicPr/>
          <p:nvPr/>
        </p:nvPicPr>
        <p:blipFill>
          <a:blip r:embed="rId2"/>
          <a:stretch/>
        </p:blipFill>
        <p:spPr>
          <a:xfrm>
            <a:off x="1187280" y="2924280"/>
            <a:ext cx="3569040" cy="2273040"/>
          </a:xfrm>
          <a:prstGeom prst="rect">
            <a:avLst/>
          </a:prstGeom>
          <a:ln w="0">
            <a:noFill/>
          </a:ln>
        </p:spPr>
      </p:pic>
      <p:sp>
        <p:nvSpPr>
          <p:cNvPr id="477" name="CasellaDiTesto 5"/>
          <p:cNvSpPr/>
          <p:nvPr/>
        </p:nvSpPr>
        <p:spPr>
          <a:xfrm>
            <a:off x="539640" y="5732640"/>
            <a:ext cx="33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bbas Kiarostami, Trees in snow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3956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ttangolo 3"/>
          <p:cNvSpPr/>
          <p:nvPr/>
        </p:nvSpPr>
        <p:spPr>
          <a:xfrm>
            <a:off x="179280" y="5229360"/>
            <a:ext cx="4932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CasellaDiTesto 5"/>
          <p:cNvSpPr/>
          <p:nvPr/>
        </p:nvSpPr>
        <p:spPr>
          <a:xfrm>
            <a:off x="1469880" y="6021360"/>
            <a:ext cx="77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Wei Wei, Sunflower Seeds, 2010. Tate Museum London 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Immagine 1" descr="aiweiwei.jpg"/>
          <p:cNvPicPr/>
          <p:nvPr/>
        </p:nvPicPr>
        <p:blipFill>
          <a:blip r:embed="rId1"/>
          <a:stretch/>
        </p:blipFill>
        <p:spPr>
          <a:xfrm>
            <a:off x="684360" y="1125360"/>
            <a:ext cx="76327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Anna Mazzanti</cp:lastModifiedBy>
  <cp:lastPrinted>2003-05-08T11:08:41Z</cp:lastPrinted>
  <dcterms:modified xsi:type="dcterms:W3CDTF">2014-09-06T06:16:47Z</dcterms:modified>
  <cp:revision>227</cp:revision>
  <dc:subject/>
  <dc:title>Inserire immagine della locandina, possibilmente in trasparenza e aggiungere Facoltà di Architettura Illustrazione prova di ammissione prof. Silvia Piardi (idem Cedolin)</dc:title>
</cp:coreProperties>
</file>